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2A0-B47C-428B-B833-191323E8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F57-03DB-4952-B843-E05D118D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D22-B2BD-4038-A26B-9760623D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362-693A-454E-B907-F5684CFB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D0D-FCDC-4255-91BE-991353C9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D5F-D1C1-40BC-8441-43731D2C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8032-AFF2-471B-A835-5C2493D2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ADE-CA20-4E85-8DAE-BE7CA22B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BDA-3784-4574-B8E2-AE5C1540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BAC-C6A6-4223-8307-4CEBBB25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06EF-6785-45E2-A00F-619ED95D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254-385F-4F7F-B004-FEDD4800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5154-18AC-46D2-B066-4683A286B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ering 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43434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i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3543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01956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erobic heterotrophic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72464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0" y="1219320"/>
            <a:ext cx="47181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uguese Man O’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3344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merhead sh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68580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y Wh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586728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362320" y="1676520"/>
            <a:ext cx="464796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95480" y="1295280"/>
            <a:ext cx="3502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se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4286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743200" y="1600200"/>
            <a:ext cx="37018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mpanz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55627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66200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62960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 Tur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595296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nosa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133720" y="1295280"/>
            <a:ext cx="46958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seshoe Cr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655308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61722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ttle S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70866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y 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0195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w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95280" y="1371600"/>
            <a:ext cx="666756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oly Mam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72392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ber-tooth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662940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v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69534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phant S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60199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tr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90920" y="1371600"/>
            <a:ext cx="3943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438280" y="1447920"/>
            <a:ext cx="383868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76520" y="1752480"/>
            <a:ext cx="54864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67532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43200" y="1295280"/>
            <a:ext cx="37242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9:45:14Z</dcterms:created>
  <dc:creator> </dc:creator>
  <dc:description/>
  <dc:language>en-US</dc:language>
  <cp:lastModifiedBy> </cp:lastModifiedBy>
  <dcterms:modified xsi:type="dcterms:W3CDTF">2007-03-15T20:04:42Z</dcterms:modified>
  <cp:revision>2</cp:revision>
  <dc:subject/>
  <dc:title>Flowering Plant</dc:title>
</cp:coreProperties>
</file>